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6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68A6-7505-4DC5-8C7F-565FB5B34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9FAA-94A9-4BEA-882C-E991E7885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D65E-B172-4062-8485-6AA65BB33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7C38-747D-4175-B807-992E743FB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DF62-06CA-4D7E-B1B5-B1BA8DE1D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DCB0-E550-447E-8639-9DF6CEB3C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3CE7-C0F2-4C4E-B52A-CFCB8B56E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3DB9-3B54-47AF-BE80-AAD8C8386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4DED-BDAE-4086-A368-424242C88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0B5F-C68D-4FA4-8142-BD320047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E5F0-B2AA-48C3-B362-EBF158730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B048-743F-477D-A141-D4403954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89F40-0976-4542-8DFB-37575FE9141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63240" cy="987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247680" y="2276640"/>
            <a:ext cx="8640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حكمة الله تعالى في خلق هذا الكون البالغ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7" descr=""/>
          <p:cNvPicPr/>
          <p:nvPr/>
        </p:nvPicPr>
        <p:blipFill>
          <a:blip r:embed="rId3"/>
          <a:stretch/>
        </p:blipFill>
        <p:spPr>
          <a:xfrm>
            <a:off x="684360" y="907920"/>
            <a:ext cx="820404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63240" cy="987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179280" y="2349360"/>
            <a:ext cx="864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رياح : لها فائدة في التلقيح بين النبات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والريح : فيها عذاب ونقم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7" descr=""/>
          <p:cNvPicPr/>
          <p:nvPr/>
        </p:nvPicPr>
        <p:blipFill>
          <a:blip r:embed="rId3"/>
          <a:stretch/>
        </p:blipFill>
        <p:spPr>
          <a:xfrm>
            <a:off x="398520" y="907920"/>
            <a:ext cx="8456400" cy="12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63240" cy="987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07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7" descr=""/>
          <p:cNvPicPr/>
          <p:nvPr/>
        </p:nvPicPr>
        <p:blipFill>
          <a:blip r:embed="rId3"/>
          <a:stretch/>
        </p:blipFill>
        <p:spPr>
          <a:xfrm>
            <a:off x="357120" y="1604880"/>
            <a:ext cx="842976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63240" cy="987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8" name="عنوان 1"/>
          <p:cNvSpPr/>
          <p:nvPr/>
        </p:nvSpPr>
        <p:spPr>
          <a:xfrm>
            <a:off x="250920" y="4869000"/>
            <a:ext cx="856908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خلق الله الجبال لاستقرار الأرض وعدم اضطرابه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كثرة خيرات الأرض واحتواؤها على كافة أسباب الحيا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رسال الرياح تلقح النبات والسحب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11" descr=""/>
          <p:cNvPicPr/>
          <p:nvPr/>
        </p:nvPicPr>
        <p:blipFill>
          <a:blip r:embed="rId3"/>
          <a:stretch/>
        </p:blipFill>
        <p:spPr>
          <a:xfrm>
            <a:off x="3276720" y="981000"/>
            <a:ext cx="5682960" cy="503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2" descr=""/>
          <p:cNvPicPr/>
          <p:nvPr/>
        </p:nvPicPr>
        <p:blipFill>
          <a:blip r:embed="rId4"/>
          <a:stretch/>
        </p:blipFill>
        <p:spPr>
          <a:xfrm>
            <a:off x="1212840" y="2276640"/>
            <a:ext cx="7686720" cy="10094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" descr=""/>
          <p:cNvPicPr/>
          <p:nvPr/>
        </p:nvPicPr>
        <p:blipFill>
          <a:blip r:embed="rId5"/>
          <a:stretch/>
        </p:blipFill>
        <p:spPr>
          <a:xfrm>
            <a:off x="1763640" y="4221000"/>
            <a:ext cx="7124760" cy="514440"/>
          </a:xfrm>
          <a:prstGeom prst="rect">
            <a:avLst/>
          </a:prstGeom>
          <a:ln w="0">
            <a:noFill/>
          </a:ln>
        </p:spPr>
      </p:pic>
      <p:sp>
        <p:nvSpPr>
          <p:cNvPr id="92" name="عنوان 1"/>
          <p:cNvSpPr/>
          <p:nvPr/>
        </p:nvSpPr>
        <p:spPr>
          <a:xfrm>
            <a:off x="250920" y="335772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يصرفوا العبادة له وحده دون سوا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عنوان 1"/>
          <p:cNvSpPr/>
          <p:nvPr/>
        </p:nvSpPr>
        <p:spPr>
          <a:xfrm>
            <a:off x="324000" y="155736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الشهب تحرقه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15840"/>
            <a:ext cx="913284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-110"/>
          <a:stretch/>
        </p:blipFill>
        <p:spPr>
          <a:xfrm>
            <a:off x="250920" y="2276640"/>
            <a:ext cx="862164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8353440" cy="2793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-115920" y="-92160"/>
            <a:ext cx="9369360" cy="987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3"/>
          <a:stretch/>
        </p:blipFill>
        <p:spPr>
          <a:xfrm>
            <a:off x="3132000" y="4594320"/>
            <a:ext cx="349272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63240" cy="987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47680" y="1773360"/>
            <a:ext cx="86407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عد ذكر صفات القرآن الكريم ذكر هنا آياته في الكو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3"/>
          <a:stretch/>
        </p:blipFill>
        <p:spPr>
          <a:xfrm>
            <a:off x="1542960" y="907920"/>
            <a:ext cx="73454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63240" cy="987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108000" y="977760"/>
            <a:ext cx="8856720" cy="57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1" descr=""/>
          <p:cNvPicPr/>
          <p:nvPr/>
        </p:nvPicPr>
        <p:blipFill>
          <a:blip r:embed="rId1"/>
          <a:stretch/>
        </p:blipFill>
        <p:spPr>
          <a:xfrm>
            <a:off x="250920" y="2009880"/>
            <a:ext cx="8615160" cy="4587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12600" y="907920"/>
            <a:ext cx="9144000" cy="763560"/>
          </a:xfrm>
          <a:prstGeom prst="rect">
            <a:avLst/>
          </a:prstGeom>
          <a:ln w="0">
            <a:noFill/>
          </a:ln>
        </p:spPr>
      </p:pic>
      <p:sp>
        <p:nvSpPr>
          <p:cNvPr id="55" name="عنوان 1"/>
          <p:cNvSpPr/>
          <p:nvPr/>
        </p:nvSpPr>
        <p:spPr>
          <a:xfrm>
            <a:off x="2843280" y="1089000"/>
            <a:ext cx="45162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آيات الله سبحانه في الكو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395280" y="4689360"/>
            <a:ext cx="4824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سطناه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395280" y="5337000"/>
            <a:ext cx="4824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ا يستطيعوا العيش ب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395280" y="595008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حسب المصلح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3"/>
          <a:stretch/>
        </p:blipFill>
        <p:spPr>
          <a:xfrm>
            <a:off x="-103320" y="-92160"/>
            <a:ext cx="93632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بيان مظاهر قدرة الله تعالى في خلق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سماء ومنازل النجوم والكواك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98440" y="2060640"/>
            <a:ext cx="8666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سعي الشياطين إلى استراق السمع لمعرفة شيء من أمور غائب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ستغلاله في إضلال بني آد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7040" y="2870280"/>
            <a:ext cx="86662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خير الله تعالى للشهب وجعلها حرساً للسماء من مردة الشياطي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ئلا يستمعوا إلى الملأ الأعلى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66760" y="36640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ضعف الشياطين وعدم قدرتها على حماية أنفسها م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شهب المحرق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63240" cy="987480"/>
          </a:xfrm>
          <a:prstGeom prst="rect">
            <a:avLst/>
          </a:prstGeom>
          <a:ln w="0">
            <a:noFill/>
          </a:ln>
        </p:spPr>
      </p:pic>
      <p:sp>
        <p:nvSpPr>
          <p:cNvPr id="66" name="عنوان 1"/>
          <p:cNvSpPr/>
          <p:nvPr/>
        </p:nvSpPr>
        <p:spPr>
          <a:xfrm>
            <a:off x="250920" y="416736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عظيم قدرة الله تعالى في خلق الأرض وتهيئتها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يتمكن الناس من العيش علي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79280" y="46720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خلق الله الجبال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ستقرار الأرض وعدم اضطراب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179280" y="517536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ثرة خيرات الأرض واحتواؤها على كافة أسباب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حيا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50920" y="568008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ذكير الإنسان إلى أن الرزاق الحقيقي هو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 تعالى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50920" y="618336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قدرة الله تعالى على إيجاد الأشياء م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عد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ي إيجاد الله تعالى الأشياء بقدر معلو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حكمة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632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31T18:43:28Z</dcterms:modified>
  <cp:revision>1862</cp:revision>
  <dc:subject/>
  <dc:title>عرض تقديمي في PowerPoint</dc:title>
</cp:coreProperties>
</file>